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whoosh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7014-AF7A-4580-A747-AA0B0F587A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4BD-C53B-4E0A-A617-B907372B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35A-57F9-4EC7-ADB3-3D8E98EA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C23-5A9F-48AB-A477-E18A85F5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A15-A325-4B9D-8078-57757273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427-9D91-421E-8E1C-A256E549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FBA-81A9-4B8C-9A6C-D9FEA36B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1C8-3D07-49BA-9649-AEB25224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DD5-C04B-42E5-84E1-AEFF8C3E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208-4AF0-4531-9967-06FB8E99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B9F-EF7E-487C-9C15-8F569FB1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6BA-173D-4F21-9264-0B7DEA05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581-D644-4F76-A853-7F56397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2E70-FA9D-4966-BBCC-A059514E8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85840" y="1219320"/>
            <a:ext cx="2971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.B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Let’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Read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We Will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little about the author, E.B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bout the book “Trumpet of the Swa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ormation about the Trumpeter Swan such as size, nesting habits,what they eat, and where we can fin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.B.Wh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as awarded the 1970 Laura Ingalls Wilder Medal for his children’s books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tuart Lit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rlotte’s Web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ed on a farm in Maine, where he found the inspiration for his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ed on October 1, 198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E"/>
          <p:cNvPicPr/>
          <p:nvPr/>
        </p:nvPicPr>
        <p:blipFill>
          <a:blip r:embed="rId1"/>
          <a:stretch/>
        </p:blipFill>
        <p:spPr>
          <a:xfrm>
            <a:off x="5216400" y="2133720"/>
            <a:ext cx="31244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Three Most Famous Boo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tuart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Charlotte’s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my stories true, you ask? No, they are imaginary tales, containing fantastic characters and events. I I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, a swan doesn’t blow a trumpet. Bu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 is only one kind of life – there is also the life of the imagination. And although my stories are imaginary, I like to think that there is some truth in them, too – truth about the way people and animals feel and think and a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Trumpet of Swan"/>
          <p:cNvPicPr/>
          <p:nvPr/>
        </p:nvPicPr>
        <p:blipFill>
          <a:blip r:embed="rId1"/>
          <a:stretch/>
        </p:blipFill>
        <p:spPr>
          <a:xfrm>
            <a:off x="5689440" y="2133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er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trumpeter_swan_03"/>
          <p:cNvPicPr/>
          <p:nvPr/>
        </p:nvPicPr>
        <p:blipFill>
          <a:blip r:embed="rId2"/>
          <a:stretch/>
        </p:blipFill>
        <p:spPr>
          <a:xfrm>
            <a:off x="228600" y="228600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mpeters are the rarest swan in the world. They used to be abundant in North America but by the early 1900s, they were nearly extin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tional restoration program began in the 1930s and trumpeter swans have responded well. They are still considered vulnerable in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swan"/>
          <p:cNvPicPr/>
          <p:nvPr/>
        </p:nvPicPr>
        <p:blipFill>
          <a:blip r:embed="rId2"/>
          <a:stretch/>
        </p:blipFill>
        <p:spPr>
          <a:xfrm>
            <a:off x="5257800" y="1447920"/>
            <a:ext cx="3135240" cy="2438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25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0" y="2584440"/>
            <a:ext cx="482760" cy="351000"/>
            <a:chOff x="0" y="2584440"/>
            <a:chExt cx="482760" cy="351000"/>
          </a:xfrm>
        </p:grpSpPr>
        <p:sp>
          <p:nvSpPr>
            <p:cNvPr id="67" name="Rectangle 7"/>
            <p:cNvSpPr/>
            <p:nvPr/>
          </p:nvSpPr>
          <p:spPr>
            <a:xfrm>
              <a:off x="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0" y="2584440"/>
              <a:ext cx="4827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11"/>
          <p:cNvSpPr/>
          <p:nvPr/>
        </p:nvSpPr>
        <p:spPr>
          <a:xfrm>
            <a:off x="0" y="29354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3605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Nesting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umpeter Swan nesting territories range from 6 to 150 acres in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est-building begins in mid-April and may take up to two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he cygnets hatch in June, they weigh about 7 ounces. After a day or two, they take to the water to feed on insects and other aquatic inverteb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swanchicks"/>
          <p:cNvPicPr/>
          <p:nvPr/>
        </p:nvPicPr>
        <p:blipFill>
          <a:blip r:embed="rId2"/>
          <a:stretch/>
        </p:blipFill>
        <p:spPr>
          <a:xfrm>
            <a:off x="5105520" y="1447920"/>
            <a:ext cx="3782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Where We Find Trumpeter S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population map"/>
          <p:cNvPicPr/>
          <p:nvPr/>
        </p:nvPicPr>
        <p:blipFill>
          <a:blip r:embed="rId1"/>
          <a:stretch/>
        </p:blipFill>
        <p:spPr>
          <a:xfrm>
            <a:off x="1676520" y="1828800"/>
            <a:ext cx="614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1:42:25Z</dcterms:created>
  <dc:creator>.</dc:creator>
  <dc:description/>
  <dc:language>en-US</dc:language>
  <cp:lastModifiedBy>RomaK</cp:lastModifiedBy>
  <dcterms:modified xsi:type="dcterms:W3CDTF">2015-09-04T10:39:58Z</dcterms:modified>
  <cp:revision>12</cp:revision>
  <dc:subject/>
  <dc:title>The Trumpet of the Swans </dc:title>
</cp:coreProperties>
</file>